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3297245"/>
        <c:axId val="66360125"/>
      </c:barChart>
      <c:catAx>
        <c:axId val="2329724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6360125"/>
        <c:crosses val="autoZero"/>
        <c:auto val="1"/>
        <c:lblAlgn val="ctr"/>
        <c:lblOffset val="100"/>
        <c:noMultiLvlLbl val="0"/>
      </c:catAx>
      <c:valAx>
        <c:axId val="6636012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329724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2BB5A-23E4-4507-A39E-C5F3B9F9F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1416E-B4F8-4A0C-B0A8-2BDBD5F7E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4CD9B-CFBD-4693-9AB1-F4E684CFC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7A137-AC9C-47C1-B134-343156D0D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85F34-0A5F-4FDC-B10C-61AB9AD26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4AF4A-2B2E-4F4D-B48C-3D6623757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15EEC-F78B-4E1B-BB9D-9D4A9E102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697D7-5C18-4CA0-896B-1B9F37409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3ED95-6EB7-4CBF-8444-0FA6C27AD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380CA-6471-40B1-A5EE-1370E9BF9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FD8F-1D7A-412F-B5F2-C5CF4BD71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A97E-408D-4368-8904-D8CEDF10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3EA86-DEDE-497A-8A36-1016269A6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57B62-4A59-40E6-BFF3-6D427675F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FBF9F-8AE6-4501-9B85-C80C99B41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38CC3-4135-46C3-A273-0A18DA09E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B7D22-95A6-47DC-A79A-39862C892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2B039-1014-4E7A-ADD9-60BA85F3B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BF35B-1A68-4DA9-A792-391BFDC2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DE388-224B-4E34-BF5E-68232B23F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BC202-A45E-4B66-8CD5-F38C0F607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E11E-71C8-45CC-A3A3-C97A1DF9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9508-64EC-446C-8883-336DB109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23DD-06E2-449A-8D3D-58D6B5B59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BBF7E-EEAC-4638-A1B7-9B10F3B08C6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B86475-B5A0-4387-BDBA-262F2ECD822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