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8578054"/>
        <c:axId val="96766062"/>
      </c:barChart>
      <c:catAx>
        <c:axId val="9857805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6766062"/>
        <c:crosses val="autoZero"/>
        <c:auto val="1"/>
        <c:lblAlgn val="ctr"/>
        <c:lblOffset val="100"/>
        <c:noMultiLvlLbl val="0"/>
      </c:catAx>
      <c:valAx>
        <c:axId val="9676606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857805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CCB0C-67F9-42D3-BD69-6627CDB22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C090-3150-4661-9BA2-A95AA376A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E4412-9B7E-4698-8B97-12804F659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90467-006E-4058-B656-DA3D45531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ED9D4-72C9-4231-B65A-65E5EA48F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B3E3B-D074-4674-BE62-F9F68636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7C08B-2815-429B-8A48-EF33BBDC0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C74D0-CFAB-4762-B7B0-C99BE646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1ADCA-FCE4-4402-B32E-AA6AEEBC2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041FA-10E4-4969-9CF1-4D272AC27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057C-6533-49FF-A749-12DD8CE7A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F381-0D41-4920-B585-EB17F8D0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0F242-CD59-4DEB-A0E4-BB921F572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12A2A-4D71-4962-A4DF-EBCFDA966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1964E-0AC3-47A5-AF44-2104A3614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6DBDF-A37D-4A48-8CBD-DDADE269E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4D7D0-5A35-4C00-870F-84E8C225A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8CA5A-ADA3-4B1A-A56A-1E829C23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A36C-C2D8-44E8-ABE8-792DEAB5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8E4F-1D96-4E3F-A124-76A43776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A801-6D80-4ED6-99D7-988985A6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FA69-6FFF-4BFB-91A6-1E47FB10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46B58-97C6-4F81-90AD-CE3C1E81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91FB-5DC2-4D79-BA12-8E77B48B9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E3C76-8CB1-4820-B969-ACB87130062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31E1B-F267-4EA3-AF06-B06899AA1DC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