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5157588"/>
        <c:axId val="80542436"/>
      </c:barChart>
      <c:catAx>
        <c:axId val="15157588"/>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0542436"/>
        <c:crosses val="autoZero"/>
        <c:auto val="1"/>
        <c:lblAlgn val="ctr"/>
        <c:lblOffset val="100"/>
        <c:noMultiLvlLbl val="0"/>
      </c:catAx>
      <c:valAx>
        <c:axId val="8054243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5157588"/>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DE69A-E54C-412F-A53A-FC9D328F9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DB8E1-8BCC-4C33-AF19-E6580C12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8A658-F1F9-40A5-9A8C-451FBB86F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97EE0-74F1-4E2B-8AF7-765570E41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8CD3F-009C-440D-8414-812E00C62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5C1E4-378D-4390-BFC8-7C4EB8831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BAE5B-2E88-40FE-A8EE-20447F516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D186B-BB6E-4553-9250-E945A98BB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F6730-93A1-479E-B565-750E9B924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4C21B-69A3-47CB-90C5-83C0AB16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B2C0B-AE51-4D35-ADD9-C57C621F4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10FC-53CC-40A5-BB1E-34F39A829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4DB76-D39B-4252-8ECD-FDFD34F01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74DC2-818B-4481-ACDE-3AFF36B4C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A2E72-B914-4F67-846A-729804093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5D07A-8609-4921-9840-AB37DE586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834B7-7BF6-478A-9A7E-81FB8F873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3193-DC81-4133-873B-3B4CEDE4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486A6-507E-44C8-9AB5-E443F8BF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0AF6D-228C-447F-928A-BBC01EECA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2393-F3ED-4B01-A83A-7F3D7CB6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A58B8-4489-41FC-B25F-B786DBB3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BFBD7-B21E-4C03-A890-F39066306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BE42-AA8C-418D-871B-9D21AA3D7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71081-FEAD-4D89-851C-30C25F3BF8D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91DA96-8C82-4A65-8B24-84CA2669A2E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